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B78-BAD2-4C05-9755-BD324E01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9DE-111D-4217-8E1C-F0105B1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5C0-F2DE-4FF0-8FCE-3518EB74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8A4-C6D1-441F-9571-4AB107AB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3AA-AFD4-4850-9F89-4B7B3E47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465-2F5B-448D-B325-DDB64BB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E53-362D-4ED4-A8E2-7FA9DC2D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17B-78CE-4E5C-ACF3-48185959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A08-415B-4E2F-9D9F-DDD349F9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953-DE7F-440A-A109-854DE22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7CF-C5D8-45E8-87D5-3C47483B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E7E-BAB3-46FB-85EE-6474C42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97B-2BF4-46C9-9FD5-EDF4A3C0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oingboing.net/IMG_227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Writing Lesson Goals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4" name="Picture 5" descr="inverse proportion.gif"/>
          <p:cNvPicPr/>
          <p:nvPr/>
        </p:nvPicPr>
        <p:blipFill>
          <a:blip r:embed="rId1"/>
          <a:stretch/>
        </p:blipFill>
        <p:spPr>
          <a:xfrm>
            <a:off x="182520" y="2895480"/>
            <a:ext cx="8732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suurtal\My Documents\My Pictures\farmer\farmer.jpg"/>
          <p:cNvPicPr/>
          <p:nvPr/>
        </p:nvPicPr>
        <p:blipFill>
          <a:blip r:embed="rId1"/>
          <a:stretch/>
        </p:blipFill>
        <p:spPr>
          <a:xfrm>
            <a:off x="304920" y="1752480"/>
            <a:ext cx="84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riting 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consolidating questions provided (with matching expec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Big Idea the question best connects to and write an appropriate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course you are comfortable with, perhaps one you will be teaching in th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xpectation that is connected to one of the 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 PPQT (Posing Powerful Questions Template)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sson goa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ecta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g Ide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solidation ques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4267080" y="44956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e6f05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need to complete the Minds On and Action portion of the template at this point – we will work on these later in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template that you created with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ider thi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onsolidation questions are more suitable for providing assessment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learning data, rather than assessment </a:t>
            </a:r>
            <a:r>
              <a:rPr b="0" i="1" lang="en-CA" sz="3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learning data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5" name="Picture 4" descr="Img 2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0"/>
            <a:ext cx="4573800" cy="678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connecting questions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backward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learning goals connected to Big Ideas and curriculum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written in the form “Students will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connect to overall expectations, rather than specific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False.  Lesson goals are curriculum specific, and could relate to overall or specific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capable of being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primarily skill-b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False.  Lesson goals are usually rooted in conceptual under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s are usually filtered through a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sson/Learning Goals – True or False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lesson goal should be about something worth tea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written in the form “Students will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curriculum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be capable of being ass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usually rooted in conceptual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usually filtered through a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about something worth teaching and they infuse/inform your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8:54:23Z</dcterms:created>
  <dc:creator>Liisa Suurtamm</dc:creator>
  <dc:description/>
  <dc:language>en-US</dc:language>
  <cp:lastModifiedBy>Liisa Suurtamm</cp:lastModifiedBy>
  <dcterms:modified xsi:type="dcterms:W3CDTF">2010-08-14T13:39:19Z</dcterms:modified>
  <cp:revision>6</cp:revision>
  <dc:subject/>
  <dc:title>Writing Lesson Goals</dc:title>
</cp:coreProperties>
</file>